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F05C-A2AC-42C2-A28E-1C12FE93D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857B-BC64-4725-89B4-E866B066E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BAB9-3861-49FB-B0EB-4B10F3C9A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F7C7-0DA5-4CD4-B536-0421EFE87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7ABC7-6802-4234-8495-12C1757F5A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D4CBA-E535-45B1-A9F2-6C329C3701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2DF09-975E-4C41-AF9B-A7A673D7E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29B6E-71F2-4364-83AE-058BB4A51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783F3-13DC-4790-8DC7-A2752EAC4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CDF8-4272-4F7A-AA88-3A0DBD56B0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E5F04-F2F6-429A-BAA1-DE96C102D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00AA-3ED0-4C77-99FD-D9657AE02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53D1-B617-4E3F-9A62-242BEE1DD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BC30-7EF5-4957-A556-89BBBA86E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2D246-1761-4BE3-8B74-86D2D21EF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C23F7-60E4-4BBD-915A-2DEB31C0D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2190F-F002-4E38-A29C-5CDF89322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4BB2-59F7-47B3-B694-6F414A01B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BA4D-F84E-4443-B09F-2B07CF617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E1D5-1675-4944-9BAD-E85FE7DB1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6EB2-668D-4F23-8FA6-08ECE3A3E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542B-81AF-4661-83BE-16047AD18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FDF9-22B4-4452-A4B3-10178D4FB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6882-9321-4198-AEC4-E5ED3C709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C51BBC-03BE-4C92-B817-524B7FC98AF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D10CBF-08C0-4660-812E-8DD46B7C98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727796C-430F-426B-8A24-7912CE963BA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6E74252-1D42-4262-B507-0F84FA88612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andling Collinear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regression (Tibshirani, 1996): minimised sum of regression coefficients so that sum tend to and reach zer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 regression (Hoerl and Kennard, 1970) minimises the squares of the regression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astic net regression (Zou and Hastie, 2005) is a hybrid of LASSO ans Ridg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net in R parameter alpha=1 (LASSO), alpha=0 (Ridge) otherwise Elastic n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indi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ssess regression models using fit indices such 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Sum (observed – predicted)^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E = Sum Abs(observed – predic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PE = Sum( [observed – predicted]/predicted) * 1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-squared = 1 - MSE / Total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Kovac et al (2024)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, LASSO, and Elastic Net regression gave very similar model fits on a linear regression of emotional competency (EC), Distress tolerance, cognitive flexibility, alexithymia and childhood trauma (TRAU) to predict internal sha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42920" y="3314880"/>
          <a:ext cx="6481800" cy="2989080"/>
        </p:xfrm>
        <a:graphic>
          <a:graphicData uri="http://schemas.openxmlformats.org/drawingml/2006/table">
            <a:tbl>
              <a:tblPr/>
              <a:tblGrid>
                <a:gridCol w="1838520"/>
                <a:gridCol w="1403280"/>
                <a:gridCol w="1619280"/>
                <a:gridCol w="162072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erf. metric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Ridg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lastic Net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S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4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5.8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0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5.37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P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.2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R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3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2.7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6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4-02-14T16:36:22Z</dcterms:modified>
  <cp:revision>323</cp:revision>
  <dc:subject/>
  <dc:title>REGRESSION ANALYSIS</dc:title>
</cp:coreProperties>
</file>